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EFA-2B34-4C9B-8660-BCC47CD7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827-56BD-40EB-AA59-1D0CE228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562-0E84-4F0A-A6FC-8090600C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643-6AB9-4353-BA96-C19BADAF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92E-D4B4-46E9-98BE-C67FBB30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278-0A6A-417C-800F-FF9BF42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7DB-2B95-449B-AEBE-90BC89B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EA7-FD5F-43DA-9751-F333530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93B-5388-4A75-91C3-1BE2AA65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1CC-1134-49D5-B98D-F691FFD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577-3B9E-45D3-98CF-057D1E3C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6D0-5114-4422-96FE-1BC5303D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361B2-7299-4EF2-812E-E2111CBD0E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0DA91-0CFC-4340-9663-1E611B4E4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karyotic cells are described a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karyotic cells are described a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from sexual reproduction have a ____________ of DNA from their pa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from asexual reproduction have _______________ DNA to their pa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parents are involved in sexual reprodu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parents are involved in asexual reprodu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 name for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lant with purple flowers and a plant with blue flowers are crossed, and all their offspring come out blue, which trait is recess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plant with purple flowers and a plant with blue flowers are crossed, and all their offspring come out purple, which trait is recess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karyotic cells have this organ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47960" y="5308560"/>
            <a:ext cx="2068560" cy="130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411960" y="5308560"/>
            <a:ext cx="17920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have the same DNA as their par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spring have DNA that is similar to their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ig bat and a little bat are crossed, 3 of the offspring are big, one of the offspring is little.  Little is the _________tra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ed ladybug and a yellow ladybug are crossed.  Their offspring all come out yellow.  Yellow is the ______________ tra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ucleus contains this genetic mater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se are things about an organisms appear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ual and asexual reproduction are both used to do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 eukaryotic and prokaryotic cells have this organel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als, plants, and fungi are this type of orga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are this type of orga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karyotes the DNA is found he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ms that reproduce sexually are always th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4:29:11Z</dcterms:modified>
  <cp:revision>6</cp:revision>
  <dc:subject/>
  <dc:title>Slide 1</dc:title>
</cp:coreProperties>
</file>